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6A6D-5582-4094-AEDC-8348E00C7F0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9853-9C0F-4F56-A9CC-2B26FF7B873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DAFF-DB1D-469E-A877-1DBC009119F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16A3-D6E8-4C88-B59D-5CC591DD55A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B6EC-F11C-4446-A93F-34D02F0A8E7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A154-CF0A-47CB-9D6D-43CA4C40FAD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9B95-F25A-4FBB-821A-EAA1B1BCA96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1919-C402-49F6-AF04-1B00E413E23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0D69-32A1-424E-805E-E6B133CA30E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11CE-A8CB-421E-8033-EDCA8F4F7A6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318-76FB-4126-AE20-D0BB871C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D7E-B6AF-4793-AC17-0A675B11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CC8-CEB6-4E5E-9E7C-9E40A559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415-CACB-47F1-9B35-6EF8FBE4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62C-6C71-4162-AF4F-63286F6F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6A9-88B7-4F0B-8DF6-53732EB8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643-E8EB-47C2-8C63-4CB78341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1D4-2862-4416-85D3-4FFCEA19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DFC-ECDA-47C3-BE75-601DB4A0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A84-85CD-44EB-8634-D85179E3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80B-8B86-4FC4-8A17-BEBFC14E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8B3-5F56-461D-AAD4-7F505167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E957-2341-4575-B625-7D5AFA576AE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dam,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birkaçını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dolaba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koydu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Arial Narrow"/>
                <a:ea typeface="Courier New"/>
              </a:rPr>
              <a:t>Eczaneden </a:t>
            </a:r>
            <a:br>
              <a:rPr sz="9600"/>
            </a:br>
            <a:r>
              <a:rPr b="1" lang="tr-TR" sz="9600" spc="-1" strike="noStrike">
                <a:solidFill>
                  <a:srgbClr val="000000"/>
                </a:solidFill>
                <a:latin typeface="Arial Narrow"/>
                <a:ea typeface="Courier New"/>
              </a:rPr>
              <a:t>defne yaprağı aldım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nam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doğurmuş,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beni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Sivas ilind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Arial Narrow"/>
                <a:ea typeface="Courier New"/>
              </a:rPr>
              <a:t>Düzensizliğini de seviyorum İstanbul'un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Ö</a:t>
            </a: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ğretmen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çözer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bu soruyu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Arial Narrow"/>
                <a:ea typeface="Courier New"/>
              </a:rPr>
              <a:t>Şimdi </a:t>
            </a:r>
            <a:br>
              <a:rPr sz="9600"/>
            </a:br>
            <a:r>
              <a:rPr b="1" lang="tr-TR" sz="9600" spc="-1" strike="noStrike">
                <a:solidFill>
                  <a:srgbClr val="000000"/>
                </a:solidFill>
                <a:latin typeface="Arial Narrow"/>
                <a:ea typeface="Courier New"/>
              </a:rPr>
              <a:t>atölyede </a:t>
            </a:r>
            <a:br>
              <a:rPr sz="9600"/>
            </a:br>
            <a:r>
              <a:rPr b="1" lang="tr-TR" sz="9600" spc="-1" strike="noStrike">
                <a:solidFill>
                  <a:srgbClr val="000000"/>
                </a:solidFill>
                <a:latin typeface="Arial Narrow"/>
                <a:ea typeface="Courier New"/>
              </a:rPr>
              <a:t>çalışıyor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c00000"/>
                </a:solidFill>
                <a:latin typeface="Arial Narrow"/>
              </a:rPr>
              <a:t>Doksan </a:t>
            </a:r>
            <a:br>
              <a:rPr sz="9600"/>
            </a:br>
            <a:r>
              <a:rPr b="1" lang="tr-TR" sz="9600" spc="-1" strike="noStrike">
                <a:solidFill>
                  <a:srgbClr val="c00000"/>
                </a:solidFill>
                <a:latin typeface="Arial Narrow"/>
              </a:rPr>
              <a:t>yıldır </a:t>
            </a:r>
            <a:br>
              <a:rPr sz="9600"/>
            </a:br>
            <a:r>
              <a:rPr b="1" lang="tr-TR" sz="9600" spc="-1" strike="noStrike">
                <a:solidFill>
                  <a:srgbClr val="c00000"/>
                </a:solidFill>
                <a:latin typeface="Arial Narrow"/>
              </a:rPr>
              <a:t>çile çekmiş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rial"/>
              </a:rPr>
              <a:t>Babam her sabah yürür.</a:t>
            </a:r>
            <a:br>
              <a:rPr sz="4800"/>
            </a:b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Arial"/>
              </a:rPr>
              <a:t>Asırlardır kır atımı suladım. </a:t>
            </a:r>
            <a:br>
              <a:rPr sz="4800"/>
            </a:br>
            <a:br>
              <a:rPr sz="4800"/>
            </a:br>
            <a:r>
              <a:rPr b="1" lang="tr-TR" sz="4800" spc="-1" strike="noStrike">
                <a:solidFill>
                  <a:srgbClr val="ff0000"/>
                </a:solidFill>
                <a:latin typeface="Arial"/>
              </a:rPr>
              <a:t>Aşıyor yüce dağları.</a:t>
            </a:r>
            <a:br>
              <a:rPr sz="4800"/>
            </a:b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Arial"/>
              </a:rPr>
              <a:t>Geziye nereye gidecekler?</a:t>
            </a:r>
            <a:br>
              <a:rPr sz="4800"/>
            </a:br>
            <a:br>
              <a:rPr sz="4800"/>
            </a:br>
            <a:r>
              <a:rPr b="1" lang="tr-TR" sz="4800" spc="-1" strike="noStrike">
                <a:solidFill>
                  <a:srgbClr val="ff0000"/>
                </a:solidFill>
                <a:latin typeface="Arial"/>
              </a:rPr>
              <a:t>Ayağı kayınca yere düşmüş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danın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kuzeyine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gittik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dını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mıh gibi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klımda tutuyorum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ğaçtan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indirdik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klından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geçenleri ben bilirim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kşamdan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beri bir lokma yemedi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lparslan, Anadolu’nun kapılarını açıyor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Arial Narrow"/>
              </a:rPr>
              <a:t>Doğruyu, </a:t>
            </a:r>
            <a:br>
              <a:rPr sz="9600"/>
            </a:br>
            <a:r>
              <a:rPr b="1" lang="tr-TR" sz="9600" spc="-1" strike="noStrike">
                <a:solidFill>
                  <a:srgbClr val="000000"/>
                </a:solidFill>
                <a:latin typeface="Arial Narrow"/>
              </a:rPr>
              <a:t>yanlışı </a:t>
            </a:r>
            <a:br>
              <a:rPr sz="9600"/>
            </a:br>
            <a:r>
              <a:rPr b="1" lang="tr-TR" sz="9600" spc="-1" strike="noStrike">
                <a:solidFill>
                  <a:srgbClr val="000000"/>
                </a:solidFill>
                <a:latin typeface="Arial Narrow"/>
              </a:rPr>
              <a:t>görmedik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mcasının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oğlu ile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buluştu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9:22:47Z</dcterms:modified>
  <cp:revision>104</cp:revision>
  <dc:subject/>
  <dc:title>KONU 1</dc:title>
</cp:coreProperties>
</file>